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3C3D-D78F-487C-999F-BE431585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DA3-F0E1-4DFC-BCDE-1F204508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70D-58AB-4ED8-810F-413AFD13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466-CC9D-4058-BD0C-FE99DCBE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DDF-9E76-4516-BD87-7AC0B213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DBE-6868-4ED7-86C4-BAE12BC9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5F0-0454-4368-B3A0-4ACBE32E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6CC-28E3-45EC-9BFF-591320A3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80F-E97F-4FBE-BB88-EA2AC4EA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FA8-275A-4712-AC2C-46177CE0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9B2-BA6F-4724-8604-D1AC35AA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162-1AE3-4A58-8E04-12AF1482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B8E1-63CF-4C7F-B77D-FB67983D51D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8229600" cy="115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0" y="2160720"/>
            <a:ext cx="8913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135080" y="836640"/>
            <a:ext cx="7758000" cy="41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3203640" y="2162160"/>
            <a:ext cx="53719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3916440" y="360216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6"/>
          <a:stretch/>
        </p:blipFill>
        <p:spPr>
          <a:xfrm>
            <a:off x="4067280" y="5013360"/>
            <a:ext cx="4635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97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530064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 على طاع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ن معصية الله   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لى الب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617840" y="836640"/>
            <a:ext cx="7275240" cy="5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4"/>
          <a:stretch/>
        </p:blipFill>
        <p:spPr>
          <a:xfrm>
            <a:off x="1719360" y="2997360"/>
            <a:ext cx="7173720" cy="57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5"/>
          <a:stretch/>
        </p:blipFill>
        <p:spPr>
          <a:xfrm>
            <a:off x="5702400" y="4653000"/>
            <a:ext cx="3200400" cy="52056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324000" y="364644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لا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زك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324000" y="148428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قبيحاً لحا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45"/>
          <a:stretch/>
        </p:blipFill>
        <p:spPr>
          <a:xfrm>
            <a:off x="476280" y="2421000"/>
            <a:ext cx="8191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1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5013360"/>
            <a:ext cx="33526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58680"/>
            <a:ext cx="892800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62080" y="1989000"/>
            <a:ext cx="8631000" cy="288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76032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287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لبس ف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057480" y="97488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ل السعداء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                            فيه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كار على من يتوهم المماثلة بين من يعلم ما أنزله الله من الحق وبين من لا ي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اء الوصف بالأعم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بيحاً لحا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هو العدل فلا يستوي عن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آمن بالقرآن ومن كفر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ؤمن حيّ القلب يبصر بنور قلبه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علم و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 ميت القلب أعمى البصيرة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ولا 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تعاظ بالمواعظ يحصل لكل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ي عقل راجح سلي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حرص على الاتصاف بصفات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مال السعداء لا بد أن تكون خالص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جه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بدي لا يزول ولا يحو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5410080"/>
            <a:ext cx="8665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شارة إ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يجمع بين السعداء وبين من صلح من الآباء والأهلين والأبناء لتقر أعينهم بهم فترفع درجة الأدنى إلى درجة الأعلى امتناناً م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5" descr=""/>
          <p:cNvPicPr/>
          <p:nvPr/>
        </p:nvPicPr>
        <p:blipFill>
          <a:blip r:embed="rId1"/>
          <a:stretch/>
        </p:blipFill>
        <p:spPr>
          <a:xfrm>
            <a:off x="6227640" y="1413000"/>
            <a:ext cx="1663920" cy="55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2"/>
          <a:stretch/>
        </p:blipFill>
        <p:spPr>
          <a:xfrm>
            <a:off x="2835360" y="5410080"/>
            <a:ext cx="502452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ها تدخل على المؤمنين في الجنة للسلام والتهنئة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1916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تض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ح ما أعطى الله السعداء من الجنة وذلك للترغيب والتشو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5500800" y="1870200"/>
            <a:ext cx="231120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1522440"/>
            <a:ext cx="864072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وفون ب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قضون الميث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ل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شون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افون سوء الحسا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وا ابتغاء وجه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قاموا الصل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فقوا مما رزقهم الله سراً وعلان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درؤون بالحسنة السيئ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7750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9:59:14Z</dcterms:modified>
  <cp:revision>2077</cp:revision>
  <dc:subject/>
  <dc:title>عرض تقديمي في PowerPoint</dc:title>
</cp:coreProperties>
</file>